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DD4-C5DD-4234-9762-D04D1865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B44-E303-4D34-AE06-7B66755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FB4-284D-4E3A-B56E-73B8B65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1FD-6C5F-48EE-AEA3-514C119D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A80-D3A8-4D68-9C66-763023AB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491-12FA-4AEC-8805-74B70C0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BDF-ECE0-4330-84BE-8D12F8C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4B0-E8AB-45C4-B4D0-E863CF2B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434-81C2-4798-A068-C4C5EE0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A72-FCED-4FA8-BF24-8C5613F8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990-B699-418E-B5D0-D3A1D4C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998-4636-41B9-8E0D-71D10E3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D11-976C-41F2-AE55-BE93FC9CE0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FAC4-34E2-4270-976E-538FC192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496-7459-4ABB-86A3-A54E7666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71680" y="2571480"/>
            <a:ext cx="85723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ORGANIGRA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STADISTIC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TABILIDAD – COS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ROCESO DE MEJORA CONTINU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PROPUESTAS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GESTION</a:t>
            </a:r>
            <a:br>
              <a:rPr sz="4000"/>
            </a:b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(HERRAMIENTAS –INFORMA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09304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1B4-B002-4D9F-BBA2-126662FE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15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MISION-VISION-VAL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FINIR POLITICAS DE LA INSTITUC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SISTEMA DE GESTION ACO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NVOLUCRAR AL DIRECTOR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UBLICARLO Y RESPETAR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ORGANI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208512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C9C-7964-4933-8534-61B4A51B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3880" y="2143080"/>
            <a:ext cx="8199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FACTURACION –FIN INMEDI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RESTACION- MOD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OBLE CARGA” :INFORMACION -ESTADISTICAS Y COST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ESTADISTICAS DE FACTURACION / VE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C16-09C2-46E1-AAF9-4CDDC935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OFTWARE 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LAN DE CUENTAS  POR CENTRO DE CO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SPONSABLE DE INFORMACION  POR 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FORMACION EFICIENTE: EN TIEMPO Y FORMA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NO EXTEMPORA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FORMACION COMPAR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EFINIR STD Y ANALISIS DE DESV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CONTABILIDAD - C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B1E-A7F2-4B08-9E92-6AAC69D7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FORMACION PARA LA TOMA DE DECISIONES DEBE SER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ESTAR MEJOR SERVICIO –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CIENTE =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ATISFACCION CLIENTE INTERNO - CLIENTE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IMINACION DE SUPERPOSICION DE 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TERRAR PROCESOS QUE NO AGREGAN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DAPTARSE A L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PROCESO DE  MEJORA CONTIN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2089800" y="6461280"/>
            <a:ext cx="52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2602-8F8A-4522-81EE-305BD19C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42600" y="142884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STOS LABORALES           59,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SUMOS MEDICOS              16,0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SUMOS NO MEDICOS        15,2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VICIOS                               2,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VERSIONES                          6,8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FUENTE DE INFORMACION ADEC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COMPOSICION DEL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2125080" y="6461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98E-D965-4F4A-BF6A-3F40C96E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2125080" y="646128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º Jornada de Administración de Salu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22050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¡ MUCHAS GRACIA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ncampregher</cp:lastModifiedBy>
  <dcterms:modified xsi:type="dcterms:W3CDTF">2013-10-07T14:41:29Z</dcterms:modified>
  <cp:revision>44</cp:revision>
  <dc:subject/>
  <dc:title>Diapositiva 1</dc:title>
</cp:coreProperties>
</file>